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2B2-3D98-46A0-86D3-B2A47D0C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6198-98D7-4747-80B2-F5712DE8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71428-4EB2-4A5B-A0B1-74FF13D7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202F8-1B0F-48E5-8BE4-94EBA53A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F6D9F-A30B-4D68-ACA0-A0F4B17C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1DA38-8318-44E9-9EFD-3F77B3DA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D0965-EADC-443A-9DAC-6E733333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34955-8199-4DFF-A32A-A2EE7A81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92FEF-D6F0-436A-9DAB-111AB091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5E912-EABD-47F8-85DF-05E34F87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3705F-1F1E-4156-9EB4-D373923E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18E8B-6720-4830-B2A7-5450165E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AB69-DC5B-40E9-BB39-4499AF03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A2FBB-E8FA-4D99-8AC0-D07356FC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9B478-8443-4F72-B6CB-FF1C57C0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50BA7-C3C1-4BDF-897F-435018C8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49591-B8B1-46F4-A264-BD6AA783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8113C-ADFA-4E80-A08F-D27229EB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96987-6D9E-4735-89D1-B16C7E12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C4778-D9FB-479C-9FF8-65B99C91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E362C-576F-4CA5-AFD7-DB6B804F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1C5F6-0AEF-4D9F-BB6A-3E3D43EF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42352-74B7-47D9-96EB-5B2181B1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819-93F2-47C1-9897-9033F582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58345-548A-4887-8AA6-DBB108B1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09D41-5BC0-4360-9F9E-1A0BD9CE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B2C7B-D222-4E43-B9A0-E5622BD6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E4C2F-D804-4094-BB0B-6EF3853E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8D33D-EF69-4215-B2AC-F7A8BD79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A6B9F-FC0D-49DD-939E-D0C54245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EAC85-C380-4855-ADF7-6943BC64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62A58-E6BA-4873-A7FB-E466F2E0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AE361-3B73-47DE-8CAA-1016B2E3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950EF-EFF9-4487-B7E5-287F1884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E340-557A-4247-8DFA-FE071B13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C358D-3B0D-4DD0-B84C-19380993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0D560-17C6-4A89-B90D-04BA6375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92ED8-D2C4-4DA8-B02F-F000DE0C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A3009-BFF7-427E-BA47-13DBDC5A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0A645-811E-4F4D-9A2D-07D99DB9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0879F-311A-4D9C-9C22-F572291F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D4908-6E30-41E8-AABA-8728CD5A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F365E-8584-401C-B133-E8B007EF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DA550-EAFA-462C-9A51-1A8C1896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91125-789A-4281-BCA1-80AE4178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1069-B85F-4ADD-BB1B-DF02C802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30FB3-3A1E-4BD1-836D-1599422F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45114-5955-448D-AEA2-53AB0661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A578E-39C9-4578-A366-7C905D57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E1C37-08A7-42BB-A54D-36D0A4CD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BF268-8CA9-4B29-8CEF-5FA28D72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3EA07-3111-4D88-B5C1-021DE2E9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89C73-670E-43DA-9656-C13CF21A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614331-CAAF-4AAB-A012-5CC3987D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FD637-E88F-42DD-AD05-C931580B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719B5-BBBC-4956-B389-AC1DA100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941F-FBA9-4729-B1AA-4DB1D0F4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2C82B5-9A02-4941-AE41-44BB3F5E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F05E2C-D336-424D-BAC6-0853E066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32400-F83A-4B8E-AB85-5972C644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D03D46-8B8D-4C4F-A021-351C43CE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03E0E-B6FE-4501-9BE7-5F67E957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5620D-5349-49DB-BDDC-2BAA8513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49621-6A17-43F8-AB78-2B9C8567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F352FD-1990-4704-B1FF-23838494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8766D3-82E0-4867-A580-37D5D1DB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918A68-CD6B-46B6-B44B-FA4624FB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6CD5-1C6F-4E7B-A223-05473989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BE6B4-DDFE-4C1B-AEE0-88B09539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900C08-DF56-4446-8995-1464C82C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810572-F52A-4DC8-BF58-95C715AD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A4CF6-BB6B-4D91-A9DA-5C667597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D4E310-8DDE-4CDC-B57C-53FFCDC1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E4E7DF-BD5F-4625-B6E8-807751FB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A75211-BAC1-4A99-87D7-474325B8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A2F434-E1B6-40E4-A675-21F3405A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F788B-CC3A-4EE7-ADD2-329E5BF5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79A6AA-1ECC-4FF4-89EE-575C4D35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CF7B-0115-483D-947A-7ADEC4E7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99DD33-7ABE-4476-B1C4-F1B55ED8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527B3C-300A-4399-8FCF-FD30193D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251D7A-B72B-4894-98EA-F21829E8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A74222-EDAF-4BFC-B51A-6E5D9B43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37C50F-EBDD-4DFF-A4EC-EDD95D15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0F2FC4-59D9-442E-B6F2-8E17163C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7FCDD1-3DCA-4660-86D9-5F4D4B30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8DF9A9-8A1E-4B9F-ADB6-766CCE90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260849-C675-418C-8188-7E992823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C0FCC-2035-4933-8FD6-67C3C5C4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55FF-AE67-4376-BCEC-D583CC8E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56F2D-E992-4AD2-AF94-EB621C88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DACBCA-391B-4F70-A620-E5797028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C91D6F-0A93-46FC-9072-5BFFE76C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4DD6B6-4DF3-4265-A884-41C723C7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747D1-6821-4712-B22C-8C6F91CE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F6A9F5-E2F7-4892-A75E-92A265A4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D38B0F-E368-4D11-A49F-BD6D8606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3B8CC8-AB79-401E-9AFA-1ACD144D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3795B5-9E4D-482F-AE71-E3CA27DE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067D35-04B3-48BA-8DBC-B6DDD888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F895-F7FC-41A3-B890-8855E3AD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743720-B8F9-4C34-84C6-9C8A98F1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71506F-D242-4DA3-8D9E-85D60AB3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C3A288-5C5C-4111-A09B-8E7C7178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3D0AFD-B41B-4299-95F4-8B26D329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3BBAE6-A6E8-4C6B-85C9-027A62DA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21E92C-F475-444B-B189-52F70853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A3505D-42D3-4898-BFD2-3C5BF505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296AA6-659D-4D06-9938-CB7541A3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15D44D-EE06-457A-96F0-4DAB39B1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E5F3C6-5268-420C-BA70-5A2A816C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680D-7BFA-4805-B074-C62F96F3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BE28-6E15-4450-90AC-4120274C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20DF68-6BF6-4174-820F-F0CB5F4B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610509-E367-4E4B-990E-6F7BD0BB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CD378E-329C-42F6-BAC8-A8C8C42E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B6F658-FDF3-4F1B-B6D3-0BDA9EA3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6AE8E6-E8CA-44DB-A879-27ED3B23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55F9D6-5DAF-4E9D-9ADB-C4501AD7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C96A42-FC3B-45A2-A8B4-C524D367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A7E5D1-EED7-4547-B808-D2401293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0EB71B-0E57-417E-92EF-01C8BB2D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ED6B10-F60F-4753-B7CA-151D8E24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8DEE-5873-4142-960E-FAFEB7DF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4D920A-DF3B-46D0-85DB-CC75822A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2F0119-2CD1-49DD-92E9-DF587E91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6D880D-2124-45BB-8322-DFC3A98D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6ACAE1-6112-4A0A-9F65-D248CCC5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C7D584-EF64-4024-8C95-F74975D6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A7D09D-7A36-4F4C-99CC-A3CFE632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44DEF5-7198-4C64-877C-A83BCE7E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DCF020-7685-4D9C-A42F-A268C778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538EB3-FBCB-442A-8789-CDA3072C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03B864-FDA3-4D64-97D7-3BE94862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2CC2-FF4C-4DF2-A727-06A7F938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FA8CAE-179B-4B23-8A0A-05355F91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572C49-85DB-4CD8-B35C-4E248A66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0D94AD-6A7E-4DD7-A91E-C07CB17D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BFD2A4-0BC8-49D2-8A59-B7AD8890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B493E1-DD9B-4B4A-B9AE-026021B8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E8DACA-0D7F-4259-AACB-714E3A4A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923830-1A88-4A37-BD6E-41022121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E73FDC-9DA9-4E48-B8DB-7C326B63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66903A-C079-4F32-82CC-5703F1A9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8C121A-A1A9-4E85-B60A-E9EDE6E7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D53E-C427-4700-9AD4-92689A10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3A8FD7-34D6-43E6-8AD7-151755DD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1FE5A1-D9FE-4E4B-B96F-2DF395A2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751973-A3B4-4DA7-A2BF-F2E879F6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B207CE-BFCB-46E8-B97E-D9A8909C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A68E7F-E144-4D27-BBAA-B2BE84DC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DE6BC2-17BA-42C3-8BAA-51D4A1F2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AC0560-6D01-437F-B38B-06F4BCF1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086131-04DF-4DCF-930B-ECAD44F7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AAC12A-F3E6-4A1E-9FD0-513DA89F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2973B4-81A4-413C-BDE5-548B84B4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74FC-AF23-488D-B219-72E8D74E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B3BFFB-61F9-4E7B-A312-F6207DD3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E2DC9F-E23E-47D7-88B0-2AD92EA5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8C06E3-95C2-4D68-A362-7985F1DA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10B838-4A2F-4582-A3D3-465E8240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D05293-CED4-4126-B258-8AB6F1F9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439CAB-8D3C-4C3B-9178-0678956A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612DE6-5BD5-4AD7-B807-E7B114EA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BFA9BE-D661-4E0F-99CE-C39B4D77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54C7C9-ED16-4309-A413-DE4605E8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795A44-BAF5-4564-BC35-BC90BAA0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6C3B-57B6-48F8-BA55-F280D17B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F5E081-DE84-4DB1-BC67-A5733193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FAD68A-4FB5-4115-8433-31761C66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D359FF-7862-4EE5-AD8D-65AAC35D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CA42CC-EDDE-4170-9D4D-546AE910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2AFBD1-795D-4CD1-B5E5-E66E619D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EE7B34-A39E-43A1-895F-50035AB3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D64C91-E38C-427E-A648-87803900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3C1044-386A-4E23-A466-29F467E5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10A259-8F95-408C-9B0A-63460D87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638E0A-FF65-4686-A5B6-01C625F1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0E506-FFFE-41EC-90C9-98035D15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E5D8BD-F9D8-40B4-A976-C3B0E7A7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C79E7E-4C0D-4C20-94B6-F328D766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B110E4-6DBA-4CFC-A73E-62FEA5E8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A4C3BE-C08C-4A9F-B2F5-D068FD28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7632BA-A20C-4481-BCBF-7B6A473C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4E99AB-3487-4054-AB92-B660B0B3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00C816-02D4-49E8-B932-4340B145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A1D78A-D485-4EFC-AA20-9137AAF6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50A983-4F3E-43B2-922B-5E1A8205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A98F28-F243-407E-AADD-C430E3EC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E17C1-9CBF-47B7-9488-05F6765F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DA8F87-E466-474C-9BA4-69798893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4F16A6-8A5E-47B4-B06C-C2F39F13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C55A13-DB7D-4CB1-82A5-5FAFE643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1D8D75-7E05-4A0D-A6EE-5EB5A7CF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323E69-AB6F-43BF-8992-491FBD04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FC4E58-2F27-45F6-BFCD-22A56AEA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638724-D0C5-4766-8B74-5A7F7103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EA108-328C-4759-9EAC-2745386A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38DDA-2CCA-47AF-9833-13BF7393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8CCE-37AF-4332-8955-B7F7F1D3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C6DF2-6023-45AE-9509-738FBC39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00287-EA2C-4611-A0DE-45530850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2F8F7-A5B0-4E4E-8F6D-CC3B9A75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04CA1-57C4-47D0-84B2-44CCB745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2CEB6-246F-4839-86FE-C79B23FD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0B27C-7CE4-412D-B3DF-2DAD2ABB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B4AAC-D188-4C58-A418-4A20E58B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0AFD2-ED41-4E40-9DB0-24AC72B3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9BE95-BF8A-40BD-A58A-579EE3B3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25665-5E18-4463-A833-78B328C6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535C-BDBD-4587-89A6-F7990FDF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26A29-F92B-4C1F-A745-B3A19643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9A469-63F6-48FA-A508-D1402EE7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8F21A-9BCC-4465-BC29-22C24DBE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2A0D4-5AA3-40D8-A3C8-19EF5890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C932C-20DD-449A-981D-3BA39EAC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9A4BF-9547-4F73-9114-3198BAC2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0C50A-908D-4B11-AF6B-BC362908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63F41-ACC7-4365-AD66-54988225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57FF3-6387-4FF8-A2DA-483DB77F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EE4EE-0A04-4BEF-A369-D6B7F0AB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93D-6E00-4729-A012-58E9DF4C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2E0AD-26A5-4812-944A-BFEFD753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CDCE1-BFC9-4E45-9954-172B3ABE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CFA17-48CF-4D72-84BB-0FE2E2CF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B0B36-B080-491C-B8BE-E2CF308E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89799-CC4A-4A02-B6CC-20A1D321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AAAEC-A72E-4DB5-A2EB-38706AEA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0BA37-9DB6-41E1-A8B4-E44466B8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0E005-1454-4537-B76C-C557B94B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3F73B-C89E-48B9-9994-319B83FF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D4B20-3B47-4D83-9504-418FDC6A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A162-33FA-4A83-8DCE-AD9FCED5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D9752-C423-4B77-BEFB-0659CA17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D036D-93EE-48C1-B24E-F818C341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7CB3D-93CE-44A7-AD3C-09FA5661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ABBE8-12DE-4E72-8010-536B551B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8CC66-1579-42F9-984E-7511B663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272E7-2BB6-420B-9737-5CCA184E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4A958-A2EA-4E4E-885C-9FD9C3EC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9A9EB-256B-47A9-A206-B63573AF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86422-EAC4-4249-BA3B-AF7237F4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4A6EB-35EF-41D9-9C18-A4744959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E912-4525-4CE8-82CB-CF65EB36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9CE31-FDD1-4C35-A902-5D3F7748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19174-FDBF-4FA9-B5D8-C93ECD0F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3BB3F-2E52-4BD8-B13E-0938F695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8609B-E132-4BAB-990C-2D9E5575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D6FAA-03A5-4505-B8DE-D2FDA468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2751B-74B4-4B44-BC39-ACE0A8FC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0AFCB-F895-4082-B9D1-A1E0B12C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05EA4-237B-443B-B916-3E39A10B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82FAA-9E7B-434F-89B4-1B3AC975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31A78-9B05-442D-8353-18DDFFA5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34ED-A8A6-43E7-B877-04B3E495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676A0-4558-4F28-8262-9EBE9239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B7CB1-686C-4F94-831A-25CF7B1B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4BBAD-8DF1-4892-8BC6-BC6B1F73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9ABA7-147C-4F67-A347-5EF60868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053E2-77D1-404B-92B2-FD7DB8C0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DD4E0-69B5-4FB0-81F9-E3755FBE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C0DEA-5DDB-49DE-8F95-69369D13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51A43-8B5D-45D8-B086-EA10CA1F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9A1C8-50DB-4950-A0DF-110AE7F5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33220-69E3-4A17-BDD8-E73436B8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FEE-DC21-461D-8F05-BFE7C18C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8BBF3-0E1F-4DAD-95C1-87397C08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D2EFE-13FD-473C-BC7E-BEC5AA46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792F6-B091-4A2E-9D7B-9CF32150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09F2C-49DB-4F25-8F43-3D52BDCF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19306-DF4D-4D75-BB3B-19ABBDBE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1AA51-60FF-4F71-B1DD-C2D721FF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F1B6E-4C5F-41C6-9AB6-5537C91B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3DCFC-BF4B-434A-859E-17F68984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60D40-C1F4-4943-91C5-F58A2327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8F5B4-F05E-4775-9B0E-7F9E6547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E53E-8FBB-405C-9BF3-3D34AB3448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A186-5448-4BD7-A2B4-3624FB6E5E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461D-3A36-4B12-93DB-307C6917C4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C989-7F85-441F-BE5F-7FDE9F9E31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100C-CE87-493E-8CF6-598B7D66E0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EB28-67E1-4DD8-BB05-D269B2EED6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8A4F-F832-42CA-BD6C-2F8145678C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B5DD-CB03-461E-BC09-62B0C7A065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AFDF-5572-4FC6-8B68-DB6AB757D0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71AB-8AC9-4B1F-AA2D-0042A35010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61EB-C162-4444-8104-D679744336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46D0-BF98-42DA-AFE3-C145FDA8EC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05B7-2E79-4777-A80B-DF2038609B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EFBA-C1AB-4439-B22D-8C985D8B10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F955-2662-494C-A9E4-6D3A6AA451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F794-6456-44FE-98C8-AB6B42B997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0C47-4232-45B4-8749-B7184FEAFB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3FE7-7E29-459C-B21A-F7A7D13C4A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774A-C863-4087-9586-B42AF65EC3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1E9F-12D6-492D-977B-C7E530A5C1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667F-D85E-40DF-A1F4-2B805C73A7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0555-0CB0-4465-88ED-6C8027B064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5FF8-C308-443B-B10F-52662571FF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EFDB-8319-4BED-8643-C396C4979F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44F0-F7BB-4FB6-88B2-F028514AAE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B8F9-B485-41A6-B664-A7108D7F56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1703-CE14-447F-8AB6-21D7E06B65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24D9-C7CF-45BA-A435-096E997E2A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6408-6610-4E64-9D6D-40B7A1A475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1E1A-5ECC-4A0B-8651-1F849DCBEA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4541-E2CB-4BFC-9196-D1ECFB5338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2FF6-3303-4C01-8C67-3900B42D04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AE7D-7AEF-47E4-9D15-74EF0A88DC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9F5B-0FD6-4294-8536-9A77AB0605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3F19-5379-46B6-B2EF-19293FD3D6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03F7-7932-4850-ABAA-D7F9BA07D3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A981-6897-4DC8-B365-720B9F9150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C8B4-CD66-4B63-8511-0ED34736BC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7AC7-E756-4E2C-AD7E-855E35FE6A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8137-E887-4C5B-9714-02DA7B2F39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4C47-90EA-4E14-B55D-6D95E3089A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127D-96B0-4A3E-82DA-6BAC0D302D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548080" y="3000240"/>
            <a:ext cx="404784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190440" y="890640"/>
            <a:ext cx="8763120" cy="57150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"/>
          <a:stretch/>
        </p:blipFill>
        <p:spPr>
          <a:xfrm>
            <a:off x="900000" y="4365720"/>
            <a:ext cx="5977080" cy="4064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3"/>
          <a:stretch/>
        </p:blipFill>
        <p:spPr>
          <a:xfrm>
            <a:off x="611280" y="5502240"/>
            <a:ext cx="8353440" cy="4064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4"/>
          <a:stretch/>
        </p:blipFill>
        <p:spPr>
          <a:xfrm>
            <a:off x="468360" y="6078600"/>
            <a:ext cx="8353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图片 1" descr=""/>
          <p:cNvPicPr/>
          <p:nvPr/>
        </p:nvPicPr>
        <p:blipFill>
          <a:blip r:embed="rId1"/>
          <a:stretch/>
        </p:blipFill>
        <p:spPr>
          <a:xfrm>
            <a:off x="219240" y="1109520"/>
            <a:ext cx="8705520" cy="463896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2"/>
          <a:stretch/>
        </p:blipFill>
        <p:spPr>
          <a:xfrm>
            <a:off x="826920" y="2335320"/>
            <a:ext cx="5257800" cy="4064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3"/>
          <a:stretch/>
        </p:blipFill>
        <p:spPr>
          <a:xfrm>
            <a:off x="755640" y="3486240"/>
            <a:ext cx="5257800" cy="4064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4"/>
          <a:stretch/>
        </p:blipFill>
        <p:spPr>
          <a:xfrm>
            <a:off x="611280" y="4005360"/>
            <a:ext cx="50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52360" y="838080"/>
            <a:ext cx="8637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95120" y="619200"/>
            <a:ext cx="8751960" cy="6181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2"/>
          <a:stretch/>
        </p:blipFill>
        <p:spPr>
          <a:xfrm>
            <a:off x="611280" y="292428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611280" y="350028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5"/>
          <a:stretch/>
        </p:blipFill>
        <p:spPr>
          <a:xfrm>
            <a:off x="684360" y="472428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6"/>
          <a:stretch/>
        </p:blipFill>
        <p:spPr>
          <a:xfrm>
            <a:off x="611280" y="522936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7"/>
          <a:stretch/>
        </p:blipFill>
        <p:spPr>
          <a:xfrm>
            <a:off x="611280" y="580536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8"/>
          <a:stretch/>
        </p:blipFill>
        <p:spPr>
          <a:xfrm>
            <a:off x="611280" y="6423120"/>
            <a:ext cx="50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542880" y="2571840"/>
            <a:ext cx="8058240" cy="17143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504720" cy="4060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971640" y="317016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971640" y="3789360"/>
            <a:ext cx="50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209520" y="876240"/>
            <a:ext cx="8724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237960" y="716040"/>
            <a:ext cx="8668080" cy="5789520"/>
          </a:xfrm>
          <a:prstGeom prst="rect">
            <a:avLst/>
          </a:prstGeom>
          <a:ln w="0">
            <a:noFill/>
          </a:ln>
        </p:spPr>
      </p:pic>
      <p:pic>
        <p:nvPicPr>
          <p:cNvPr id="1122" name="图片 2" descr=""/>
          <p:cNvPicPr/>
          <p:nvPr/>
        </p:nvPicPr>
        <p:blipFill>
          <a:blip r:embed="rId2"/>
          <a:stretch/>
        </p:blipFill>
        <p:spPr>
          <a:xfrm>
            <a:off x="1814400" y="6375240"/>
            <a:ext cx="4341960" cy="45720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611280" y="4221000"/>
            <a:ext cx="50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图片 1" descr=""/>
          <p:cNvPicPr/>
          <p:nvPr/>
        </p:nvPicPr>
        <p:blipFill>
          <a:blip r:embed="rId1"/>
          <a:stretch/>
        </p:blipFill>
        <p:spPr>
          <a:xfrm>
            <a:off x="819000" y="1152360"/>
            <a:ext cx="7506000" cy="455328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3"/>
          <a:stretch/>
        </p:blipFill>
        <p:spPr>
          <a:xfrm>
            <a:off x="1187280" y="2924280"/>
            <a:ext cx="5050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614520" y="2048040"/>
            <a:ext cx="7913520" cy="27619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2"/>
          <a:stretch/>
        </p:blipFill>
        <p:spPr>
          <a:xfrm>
            <a:off x="971640" y="2075040"/>
            <a:ext cx="50472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204840" y="762120"/>
            <a:ext cx="873288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9:5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